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.xml" ContentType="application/vnd.openxmlformats-officedocument.presentationml.comments+xml"/>
  <Override PartName="/ppt/comments/comment7.xml" ContentType="application/vnd.openxmlformats-officedocument.presentationml.comments+xml"/>
  <Override PartName="/ppt/comments/comment8.xml" ContentType="application/vnd.openxmlformats-officedocument.presentationml.comments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 Chilvers" initials="CC" lastIdx="4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09-07-19T22:47:30.666000000" idx="4">
    <p:pos x="5057" y="2499"/>
    <p:text>Not sure about what this says?
Should it be:
Connect to a problem the graph and the vertex to avoid isolated and unconnected knowled...
Or
Connect a problem to the graph and the vertex...etc</p:text>
  </p:cm>
</p:cmLst>
</file>

<file path=ppt/comments/comment2.xml><?xml version="1.0" encoding="utf-8"?>
<p:cmLst xmlns:p="http://schemas.openxmlformats.org/presentationml/2006/main">
  <p:cm authorId="0" dt="2009-07-19T22:37:18.918000000" idx="1">
    <p:pos x="4608" y="1494"/>
    <p:text>Should that be partial understandings?  conceptions sounds funny in my head, but so do many things</p:text>
  </p:cm>
</p:cmLst>
</file>

<file path=ppt/comments/comment7.xml><?xml version="1.0" encoding="utf-8"?>
<p:cmLst xmlns:p="http://schemas.openxmlformats.org/presentationml/2006/main">
  <p:cm authorId="0" dt="2009-07-19T22:41:42.278000000" idx="2">
    <p:pos x="5350" y="3007"/>
    <p:text>Rephrase?
have two different, potentially conflicting algebraic and graphical schemes in the cognitive structure (The phenomenon of compartmentalization)
Or just (compartmentalization)
</p:text>
  </p:cm>
</p:cmLst>
</file>

<file path=ppt/comments/comment8.xml><?xml version="1.0" encoding="utf-8"?>
<p:cmLst xmlns:p="http://schemas.openxmlformats.org/presentationml/2006/main">
  <p:cm authorId="0" dt="2009-07-19T22:44:29.087000000" idx="3">
    <p:pos x="5184" y="3007"/>
    <p:text>This one still worries m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D6DC-5135-401A-B601-4A62E0F2A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FAA5-671A-44F4-9BFE-0D9B4A4BE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3822-DE33-4B0F-BDEE-8065CE1DD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third bullet (interrelate…) is the rationale for the activity in Action por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6595-B937-44AE-8174-91945638E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85DA-606E-4314-8C42-BE41C7125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guess on time for the BLM QR.2.1 – 40 minutes including discussion of big ideas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F18D-9413-4D25-8724-19B251F3D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5F85-D07B-496C-BA2A-226DEA097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int out the assessment opportunities available during th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pprox 1 min of compar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fter step 3 – ask if they notice anything (should notice that sets of 3 were always toge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8EBF-0530-4F4F-A48B-2BC1B4D19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3C42-1193-4801-ACDF-C28973E97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: Why is it not necessary to state all the inf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BE6D-CA20-4664-A7D6-ABA5B07FF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84B1-0389-4A83-B919-04DEE0A95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 think this would be about 30 minutes, with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F38A-7577-407E-8704-14F2BC55E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E30A-70D6-40BB-BD12-6F6609310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71BD-B8A1-4A9D-872F-9FB01B517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ion – 5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uld discuss strategies they used – sequential selection of x val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cuss research on above struggles and how introduction to quads through geometric models links quads to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B1D4-CFF2-42B1-AE76-9FF3CCE0C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36F7-0EFA-4F22-BC50-CA849F9CE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/Debr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part – 2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F809-C6DF-4E92-B39C-A4B4B952E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4B14-8807-4661-81D0-00DAA4924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Stumbling Blocks – 10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1672-07D7-477D-AE3A-14E011132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DB32-BB60-460C-A0B6-2EB32FDBE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10 minutes for both the student and teach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&lt;&lt; Both student struggles and teacher suggestions need to be edited – I just copied them all in for now but we will need to reduce the list to remove repetitive entries&gt;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29DB-FE69-4B31-B76F-C84363B74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DD23-DCAC-48AD-85ED-11C986469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3CDD-3C77-47BE-B45E-A26A4BF59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6A52-0A6D-405E-8692-84888995C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0E3B-B6AE-455E-A87D-4AEE83E2A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FDD-4159-4D32-AD99-0F535CC4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C6CC-A8BC-48D8-A94B-5E2BFA44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05E7-E95D-41AF-AE48-5BC0D042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400-F1AB-4383-A5CB-7C903C1B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9007-8756-4582-823F-F494D754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E2AF-2026-4280-9CB7-024DDE9C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0D38-ED9A-495A-BAE3-18A84AAB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6710-4FC7-4E51-A99D-FD120C29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DC5D-F8CD-44C2-B52C-A2C9543E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D95D-2D4B-461C-ACD6-73348D0A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DD34-0C43-41C3-A716-54D08A3B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66A-B49D-4907-8342-F83E0AE0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EE80-B3CE-47DA-BA5C-2FFCDC16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71AF-2F10-4B43-B907-0A9EACE4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E321-4454-4214-B78A-B2FB0F42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82ED-2019-4C2D-B4DE-3D873123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4206-D5C3-4D2F-8975-0896C8A9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7A4-D1AD-4ED0-96A6-8F18E189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AAC-413C-40F4-95FC-F784E86D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9E4-8F07-4354-BC98-6DE9B957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A7F-995D-49F3-9801-7CC10ADF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F54-A881-4C3A-8CFE-FFF2E7C0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DE1-D093-4486-B415-813F9209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E77-84CD-49BC-BB46-1EA12B1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A2EE-A1DD-4D08-A3CB-036BB6DB3AE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5D27-A6DB-4450-A897-0D69CEA2ED3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8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Tripping Over </a:t>
            </a:r>
            <a:br>
              <a:rPr sz="4800"/>
            </a:b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Stumbling Bl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well-designed set of tasks or examples that emphasize the distinction between the quadratic formula and quadra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esent the vertex form by connecting it to the standard form and emphasize the connections to the graph as well as information about how and when to us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open and prepared to communicate with students in terms of confronting, discussing, and dealing with these conflicting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void sequential presentation of the forms and instead simultaneously introduce vertex and standard form, emphasize the differences between them and reveal the underlying thoughts that generated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necting the problem, the graph and the vertex to avoid isolated and unconnected knowledge in the student’s cognitiv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errelate graphical and algebraic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itor student thinking to expose misconstructs and to allow deeper connections to be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on quantitative relationships that can be represented by both linear and quadra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ine the ways in which quadratic growth differs from linear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-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ity 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Recognize that different representations of relationships highlight different characteristics or behaviours and can serve different purpo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4268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veryone is going to receive a graph of a quadratic relation with its equation.  The equations are given in 3 different forms (examples shown below) and we will be looking to see what information each form gives, if any, about a parabola.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 = 3(x + 2)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– 7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y = 5 (x + 4)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 = – 2x</a:t>
            </a:r>
            <a:r>
              <a:rPr b="0" lang="en-CA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+ 4x + 2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y = 5 x (x – 2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 you believe that all of the above relations would give parabolic graphs?  Why or why not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17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71760"/>
            <a:ext cx="86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lete the information requested below the graph given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group with all the people who have the sam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zero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- compare your graphs (similarities? difference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new group with all the people who have the sam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vertex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- compare your graphs (similarities? difference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a group with only the people who have 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xac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am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4268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 chart paper record the important info about your 3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g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rcRect l="27436" t="40117" r="26003" b="19771"/>
          <a:stretch/>
        </p:blipFill>
        <p:spPr>
          <a:xfrm>
            <a:off x="1857240" y="3286080"/>
            <a:ext cx="5970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Activity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7120" y="1642680"/>
            <a:ext cx="87868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ity Consolid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class decide how the chart papers should be arranged to help make pattern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nformation about the graph of a parabola does each form of the equation g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low-up exit card: which form do you think is most useful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125"/>
                            </p:stCondLst>
                            <p:childTnLst>
                              <p:par>
                                <p:cTn id="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75"/>
                            </p:stCondLst>
                            <p:childTnLst>
                              <p:par>
                                <p:cTn id="11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2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900"/>
                            </p:stCondLst>
                            <p:childTnLst>
                              <p:par>
                                <p:cTn id="1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650"/>
                            </p:stCondLst>
                            <p:childTnLst>
                              <p:par>
                                <p:cTn id="2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50"/>
                            </p:stCondLst>
                            <p:childTnLst>
                              <p:par>
                                <p:cTn id="26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200"/>
                            </p:stCondLst>
                            <p:childTnLst>
                              <p:par>
                                <p:cTn id="3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700"/>
                            </p:stCondLst>
                            <p:childTnLst>
                              <p:par>
                                <p:cTn id="3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200"/>
                            </p:stCondLst>
                            <p:childTnLst>
                              <p:par>
                                <p:cTn id="4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700"/>
                            </p:stCondLst>
                            <p:childTnLst>
                              <p:par>
                                <p:cTn id="47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4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325"/>
                            </p:stCondLst>
                            <p:childTnLst>
                              <p:par>
                                <p:cTn id="5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5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775"/>
                            </p:stCondLst>
                            <p:childTnLst>
                              <p:par>
                                <p:cTn id="53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54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050"/>
                            </p:stCondLst>
                            <p:childTnLst>
                              <p:par>
                                <p:cTn id="56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4300"/>
                            </p:stCondLst>
                            <p:childTnLst>
                              <p:par>
                                <p:cTn id="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700"/>
                            </p:stCondLst>
                            <p:childTnLst>
                              <p:par>
                                <p:cTn id="68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6750"/>
                            </p:stCondLst>
                            <p:childTnLst>
                              <p:par>
                                <p:cTn id="74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6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7750"/>
                            </p:stCondLst>
                            <p:childTnLst>
                              <p:par>
                                <p:cTn id="7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250"/>
                            </p:stCondLst>
                            <p:childTnLst>
                              <p:par>
                                <p:cTn id="8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" dur="25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– Student Struggl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cuss struggles that you experienced while engaged in thi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 chart paper, record struggles you think students might have when completing the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 at least one question for each struggle which c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Reveal the struggl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caffold for some struggling student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mmon student struggles (errors, misconceptions, and partial conceptions etc) that are grounded in experience and/or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lize that different representations of relationships highlight different characteristics or behaviours,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light the importance of being conscious and explicit about the instructional decisions; specifically, the need for simultaneous introduction &amp;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the connections you see between the identified struggle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curriculum expect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suggested instructional strategie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he lesson goal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-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&lt;&lt;need to insert revised (when it is) BLM QR.2.2&gt;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Do we want to show the link to clips here too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3"/>
          <p:cNvSpPr/>
          <p:nvPr/>
        </p:nvSpPr>
        <p:spPr>
          <a:xfrm>
            <a:off x="357120" y="300024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is activity addres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85840" y="1219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How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3571920" y="1246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Why 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6715080" y="114804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D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072040" y="4714920"/>
            <a:ext cx="40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38480"/>
                <a:tab algn="l" pos="6648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big ide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428760" y="3944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990099"/>
                </a:solidFill>
                <a:latin typeface="Garamond"/>
              </a:rPr>
              <a:t>the lesson go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3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25"/>
                            </p:stCondLst>
                            <p:childTnLst>
                              <p:par>
                                <p:cTn id="9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75"/>
                            </p:stCondLst>
                            <p:childTnLst>
                              <p:par>
                                <p:cTn id="9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99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650"/>
                            </p:stCondLst>
                            <p:childTnLst>
                              <p:par>
                                <p:cTn id="10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50"/>
                            </p:stCondLst>
                            <p:childTnLst>
                              <p:par>
                                <p:cTn id="11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200"/>
                            </p:stCondLst>
                            <p:childTnLst>
                              <p:par>
                                <p:cTn id="11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0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1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700"/>
                            </p:stCondLst>
                            <p:childTnLst>
                              <p:par>
                                <p:cTn id="12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5" dur="25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6" dur="25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" dur="25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200"/>
                            </p:stCondLst>
                            <p:childTnLst>
                              <p:par>
                                <p:cTn id="129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0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1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700"/>
                            </p:stCondLst>
                            <p:childTnLst>
                              <p:par>
                                <p:cTn id="134" nodeType="afterEffect" fill="hold" presetClass="emph" presetID="15">
                                  <p:stCondLst>
                                    <p:cond delay="50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35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325"/>
                            </p:stCondLst>
                            <p:childTnLst>
                              <p:par>
                                <p:cTn id="137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38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775"/>
                            </p:stCondLst>
                            <p:childTnLst>
                              <p:par>
                                <p:cTn id="14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25000000372529"/>
                                  </p:iterate>
                                  <p:childTnLst>
                                    <p:set>
                                      <p:cBhvr>
                                        <p:cTn id="141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3050"/>
                            </p:stCondLst>
                            <p:childTnLst>
                              <p:par>
                                <p:cTn id="143" nodeType="afterEffect" fill="hold" presetClass="emph" presetID="36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300"/>
                            </p:stCondLst>
                            <p:childTnLst>
                              <p:par>
                                <p:cTn id="14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700"/>
                            </p:stCondLst>
                            <p:childTnLst>
                              <p:par>
                                <p:cTn id="15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6750"/>
                            </p:stCondLst>
                            <p:childTnLst>
                              <p:par>
                                <p:cTn id="161" nodeType="afterEffect" fill="hold" presetClass="emph" presetID="27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2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3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7750"/>
                            </p:stCondLst>
                            <p:childTnLst>
                              <p:par>
                                <p:cTn id="16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8250"/>
                            </p:stCondLst>
                            <p:childTnLst>
                              <p:par>
                                <p:cTn id="17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2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3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4" dur="250" autoRev="1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Think Bac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specific struggles would this activity potentially address for studen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ould be done to address the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the use of manipulatives add to your problem solving strategy? understanding? ability to connect represen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exit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t out algebra tiles from BLM QR.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Stumbling Bloc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about common stu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misconcep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tumbling block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erro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partial concep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one per sticky 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the sticky note beside the appropriate curriculum cluster or big idea or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 – Revisit Lesson Goa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nvene with your groups for lesson goals from 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ing the sticky notes to supplement your own consideration of the struggles students normally encounter, revise and/or add to your lesson goal from 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ost your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400" y="185688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a graph as a sketch through three or four points and never consider trends in families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recognize the role or significance of the x-inter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rely consider ways in which the graph provides visual insight into the behaviour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il to understand the power of the graphic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il to connect the graphical representation to other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symbols before they understand the meanings behind the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understand the relevance of a solution to 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 comprehend the beauty and significance of the graph (because there is an overdependence on the procedure of grap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two simultaneous evoked images for one concept, which results in cognitive conflict (e.g., quadratic function evokes quadratic formula and parabo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a tendency to use standard form over vertex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Struggles with Quadratic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5840" y="190476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about when and how to use the vertex (h,k) with the vertex form, y=x(a-h)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k, which is demonstrated through students using the same process (algebraic to graphical) regardless of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ck understanding of why a parabola horizontally or vertically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phenomenon of compartmentalization – having two different, potentially conflicting algebraic and graphical schemes in the cognitiv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isinterpreting the point (b,c) as the vertex of the standard form y=ax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connecting various representations of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students solve problems graphically before algebraically in order to build better connections between the graph and the equation (not true for algebraic to graph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e students build quadratic functions by multiplying linear functions (rather than seeing them as a new, unrelated top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uggested Instructional Strategies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achers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ose students to quadratic equations that cannot be factored in order to expand their understanding that factoring is not always the appropriat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judging reasonableness of the answer and appropriate types of solutions, which requires students to understand the numb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C Chilvers</cp:lastModifiedBy>
  <dcterms:modified xsi:type="dcterms:W3CDTF">2009-07-20T03:15:25Z</dcterms:modified>
  <cp:revision>135</cp:revision>
  <dc:subject/>
  <dc:title>Slide 1</dc:title>
</cp:coreProperties>
</file>